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79A9-5328-467A-B4EA-5C005A88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C5ED-AE7B-42EC-AA8E-338AE7EE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B05EA-459E-43E5-93EF-4FF53540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C9EFA-F2AA-4C14-BE1F-A2DF3C4E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43960-EAB8-44AB-9D0D-A27F8711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6F9E5-7EA0-4998-9352-8BE7E801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B49F6-E12F-4639-8580-8AC514D9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D30A6-A7B8-40C8-A51E-2DEA52BB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12B7E-6D29-4F1F-8784-DEC60266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365EE-B41D-4A76-9A52-823E0BEB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71108-1372-4162-9D1F-AAB5BE11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C4BC5-A4EB-451A-A092-56CFC102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A8F9-7EF7-4EEC-A52B-26AB8676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A62C7-44BD-49AC-BA96-775FBF60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7F35D-BA82-42D2-A036-9D9AA614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31D90-C291-40F6-9086-6673525D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850E2-EAAC-42A8-B79F-B7FEDC76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2A17D-0CE6-4D62-85BF-CA6D785C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DE677-47F5-4B84-9FBC-EBFC944E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A2BDE-9B37-4D90-9CE5-6AB8740D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9173F-26B7-4219-A912-55F040B5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63380-CC87-499C-AB02-76BC1F0E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90A6F-2702-4CBE-8C11-A01A6C39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D0D9-04F4-4156-B214-696F3ADF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A34B40-992C-4D61-9903-14C9B8F8B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D6E00-840B-4893-A3B3-D82E9D99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CCC6D-42EA-4AE4-93E0-865060F4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A8D8C-0FE6-4F62-8F0D-5CA3144E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ACE9E-41F0-4FB8-8EB9-D29EC802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025D3-23BF-40CA-A827-E7BDA646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180F7-52C7-432E-8D0A-148020DC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4FD1A-9C1D-43E0-930C-E735934F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21985-A8AB-444A-A460-64FC38C7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A698A-FD2D-448A-B108-1546B99B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4257-F585-4B1E-83FE-E9CD47CD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A59DD-E6F5-4F3C-A329-7F714147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C698C-B9D9-4AF1-8917-CB28696A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AA2BB-E7A4-49D9-B46E-D361DF4A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18D78-B797-4552-87F6-0C793B2D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4C529-46DD-450D-AA19-8CF19FF6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DADA0-AFCD-4087-9190-7650405C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5CAEB-F2EE-4F9F-AFA6-02C40E0B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F279B-FFED-4772-B16C-0A352391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FDE04-32E4-431A-84C8-E03BA983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D17AF-A253-4826-9877-88280EF7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0D62-8FBB-4163-9AA0-C0A8695A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DB2269-8080-4066-B62B-5F9FDA39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9744B-D45C-4728-828B-D55952C6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B1C0C-0073-433A-A84F-68143AED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3971C4-DD64-46DC-852B-6FFBDDE2A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2E926-4E38-4FF7-8955-09C60D4E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55D7-C4AF-4F49-AC7D-C6B14D20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1294-F48C-4491-A3AF-94E99E55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C1AF-E9C4-4287-AE04-560F22F6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8A8B-C04D-4C20-8810-89CD3C5E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3266-71DD-4F0A-8730-28FD8685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F67C-9B02-47C2-9AB4-A1202CA0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BB9D-347E-474B-ABF6-61978FC8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E16C-368A-4D13-A4ED-EDF7FEB0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D8BC-44D1-4B5E-AD7D-9E3C168A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314F-A936-4B3C-AE82-91D47D0CC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45DC-B3DD-4CAB-A56E-2CECD5B70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51F7E-CD43-4595-AB4D-F98C6729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9DB92-F954-4570-9DED-63CC98C9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18644-B71C-423B-9C33-C16E26BF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09071-E8D8-41D8-8B6B-3E9C1DE5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ED5B1-0D18-4B16-AF73-999EE62B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B2DA-B256-4BD8-B751-4896734D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1BE8C-A572-4DC2-8AAC-9B896B7F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86B87-C36F-4B6D-8F59-6AF1D3FD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F1DDB-B630-4E0E-BC63-387149B4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38F35-4745-49D1-844D-E8B836EA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31647-5B26-4FE6-9A7F-9E31640E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22A0D-5CF0-44A5-B3B2-CA86F47F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65C60-7F43-47DD-B254-777F966B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A0BA6-D728-4FD3-BF5A-A7FA96C5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46819-4D56-4666-944E-6E4E33C3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C9657-58F4-4BF1-B747-15B03E24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144A-9BB7-419A-8DAF-84A66D87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BC3FD-9AF7-496A-B363-2CA888AD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CC15A-87F9-4511-9732-EE880D36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37987-FB10-4AB3-9BA8-19888CA9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CEA59-BB7A-430C-A105-DA7D9531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EE1CA-1493-4A58-B22B-4C37F86F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5378E-95EC-4D8B-B470-501126FD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111C7-7D44-4E9B-812F-82C6996A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01726-A197-4299-AE42-5843CD802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9862D-6314-4F31-B262-9241DDB3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ED4FA-2A62-41F1-8D04-23DA1A90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B881-03A0-4F15-878A-A625CE1C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AC3C3-8E99-4044-AB06-D4242400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A2F16-8EB7-449C-86EB-2D411B03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BD573-E198-4DF6-B707-D7382284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A54DA-846C-4834-8A5D-5827FF2B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50749-9322-4618-A967-F5B7A9EA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0A67C-AF6E-48E7-93A6-42A2830E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09529-3FE3-4D1E-A32A-9A07FC4B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2CE9D-C767-4570-97F9-08B00C91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773DC-C629-430F-BA46-41826C5E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17376-EFF2-4713-8DC5-359464DA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8FB6-9214-412E-B34D-5CF409A0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99BE4-E3E0-4FC6-9DCA-4D7D64D7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347C5-FA9E-43F9-B212-3A1C018D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4BDD8-3F93-4754-9F33-2E0A5E27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2199F-66FA-4F1C-ABCA-DC82F30F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AB055-F499-4BD4-AE74-3CC5CE17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B0F30-C5D7-4FBD-8419-4F0955F4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92C2A-67F8-478C-9646-F2EF0E3F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FC98D-0D1F-471F-9B14-0F565EFE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D9094-6A1C-4548-B0AB-75F75EDF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311E3-E452-489F-B311-88856BD2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5ADA-1591-4993-B358-FDF3B122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B507A-F982-4665-91B8-56980758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EB177-8DA1-4009-88ED-1D3898612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8D804-57A8-4DA4-898F-45C4C7694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7AEC3-FDF6-4A3C-94ED-B4600A9A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C2533-E3BA-4373-AC20-F72F39D0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3296E-2507-41B4-877C-9C414581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FFFBE-0133-43FA-8791-D2D66F4F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46BD7-EA90-42B4-B8A1-E41EFFD7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4B94E-3D29-4941-85E5-BEEE6024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A1BBB-6CC5-4DD3-B743-276B1419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2E96-0FBB-45D3-9642-6F67A350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E091A-4B6B-4E4A-99AD-6310B48A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7BD01-4B41-41EA-A286-CEA7ECA5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59A11-3F0C-4BAB-8138-CE5349F2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964AE-3FF8-4891-AED5-993CA953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6E2DD-6E96-42F1-B417-961E79CF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A554C-1B48-4DF8-8373-B564CDA7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60E6F-0653-45AE-9A6D-C38652A9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FC2DE-CA2B-49F0-A733-04955530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AC987-081E-4E90-B9F0-32EBE08D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AF8A9-B690-4FD2-8B50-D2EB76E1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D610-CFDB-4094-829A-DCB738AB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FFE09-0464-4AD5-873C-30F84490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9DADE-9C77-44FF-92EA-9308B95A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56680-6DF7-4F54-8870-A47652A3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413F2-494E-422E-B947-17988005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7D374-3310-4B1E-9EA9-2CE6292E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42483-409B-42EC-A5A9-FDF118B4C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17DFC-9DD4-4140-B31D-602C776C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BA71B-4FED-4244-8E2E-DDD5BB0A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148B2-552E-45ED-B364-7574A1F0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A9122-BB77-4037-B42A-5EA02A93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CD04-DB93-4F50-91BD-AF07F44F77F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3E48-944E-46F5-B50D-1E425CF782D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727B-2303-40AD-BD9E-894F34FA3F5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FE7A-6E32-41A8-803D-F01BB2A2743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FEE1-4475-4A37-AA14-91118910DC9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1232-7DCF-4093-AC0B-DE043606B34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0020-AFE7-40BF-B70F-D7F143CEC70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7789-7B9A-4BC6-B485-F9ECE5CC33D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F63D-911C-4716-8987-1B8DB315C2B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4F8A-9562-41AB-99DA-E6A32E6692F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375C-B92F-4FF2-AEB9-29C5B7EC052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34CE-B0BB-48B3-A5F1-69705EFD4C9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45 Každý duch nech veleb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žiš prišiel medzi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ľme Boha v každý čas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aždý duch nech veleb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a slávy na nebi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er a pokoj národ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oniec zlobe, úklad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sať môže celý svet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ykúpený z hriechu, bied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siaľ znie nám radost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ev o sveta spas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žiš prišiel medzi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ľme Boha 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istus, nebies okras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ej pocty vzdáva sa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u Otca v sláve ž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maštali sa narod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šiel na svet Boží Sy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baviť ľudí hriechu, vín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mmanuel, s nami Bo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kala vekov, spásy Ro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1026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žiš prišiel medzi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ľme Boha 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taj, Knieža pokoj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vete sváru, rozbroja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taj, Spása odvek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techou si človek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šlo ráno spaseni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rť je moci zbavená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lesaj nebo, jasaj z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etu vzišiel večný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4T10:35:27Z</dcterms:modified>
  <cp:revision>32</cp:revision>
  <dc:subject/>
  <dc:title>Je veľký náš Pán, on slávy je Kráľ Nech do všetkých strán  spev vrúcnych znie chvál.</dc:title>
</cp:coreProperties>
</file>